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954-C27B-4512-8885-BBF0F9AE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420-3A72-4444-AC45-180C8E80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F52-7B7B-436A-835C-312D2F57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8FB-FABE-4D49-B044-75B03EBE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37A-8C39-4FE7-A9D7-84F6B0A3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4FE0-951A-448D-9738-10FF36F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552F-E943-4D94-823A-4507291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6B4-1E53-4368-846E-7365132C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36E-D579-46E3-B935-FC5F6D8E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FDF-3246-428B-8585-2541A10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EDB5-69DB-490C-BC44-A9E7ABEF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8D9-CAD9-41CE-BE9B-06FF4A8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F0D-6439-42A2-A490-49D084A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9AFC-EE8D-4597-998A-8EAC4C8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B02-A75E-4957-88C8-22D106F6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F102-FFE4-42B0-9EB1-968C932B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E520-FA95-4A66-A61A-95C693CB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759-E8AD-4037-B500-E44AB19D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635-A3AB-4CF4-9188-1259249E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1F0-E84D-4B29-AEF3-72B90072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614-D061-4CED-BA00-A0EE0443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E06-1C6A-4E64-9737-0B70348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6A6-C2F2-490F-9DF8-66E3D5D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865-199B-498A-85FF-F645934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132-F3E9-4200-9F8A-A992A0B259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FC47-AC8D-4E02-AE1D-370D5E2A12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ДОРОЖНАЯ КАРТА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план мероприятий)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о разработке перспективного облика МГС как региональной организ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кол №47-2015, п.8.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еспублика Армения, Республика Беларусь, Республика Казахстан, Кыргызская Республики, Республика Молдов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Этапы разработки «Дорожной карты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1197000"/>
          <a:ext cx="8604360" cy="5472000"/>
        </p:xfrm>
        <a:graphic>
          <a:graphicData uri="http://schemas.openxmlformats.org/drawingml/2006/table">
            <a:tbl>
              <a:tblPr/>
              <a:tblGrid>
                <a:gridCol w="381240"/>
                <a:gridCol w="2887560"/>
                <a:gridCol w="703080"/>
                <a:gridCol w="463248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6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епление Бю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общего руководства деятельностью Бюро по стандарт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тратегии развития, подготовки предложений по стратегической полит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новой структуры МГ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структуры МГС как региональной организации по стандартизации с учетом международного и европейского опы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гласованной и многосекторной системы стандартизации имеющей региональную знач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ие изменений в документы (Положение о МГС, Правила работы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новых принципов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ое финансирование, позволяющее МГС выполнять в полном масштабе необходимые работы по стандартизации и осуществлять другую деятельность, востребованную заинтересованными сторон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стемы информационного обеспечения деятельности МГС (СИО МГ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Центра управления СИО МГС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О МГС и ее модуле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сопровождение СИО МГС на базе национального органа по стандартизации одного из государств – участников Согла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Структура  Бюро по стандартам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штатная численность 14 сотрудников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914400" y="1679400"/>
            <a:ext cx="77724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Разработка и согласование новых принципов финансирования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(взносы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692280"/>
                <a:gridCol w="6387840"/>
                <a:gridCol w="692280"/>
              </a:tblGrid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сточники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 членских взносов государств – участников Соглашения на основе принципа дифференциации взно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 Евразийской экономической комисс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носы за участие в Межгосударственных технических комитетах по стандартизации (МТ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носы за участие ассоциаций и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тельственные и неправительственные гранты, выделяемые на развитие и гармонизацию нормативной технической базы С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числения от продаж межгосударственных стандартов, разработанных после 1992 года {или разработанных впервые) государствами - участниками Соглашения на своей территории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, консалтинговая, информационная, презентационная деятельность, а также проведение обучающих программ и семинаров на коммерческой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едложение в проект решения МГС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обрить проект «Дорожной карты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лан мероприятий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азработке перспективного облика МГС как региональной орган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проект «Дорожной карт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7T11:08:46Z</dcterms:created>
  <dc:creator>OLEG</dc:creator>
  <dc:description/>
  <dc:language>en-US</dc:language>
  <cp:lastModifiedBy>user</cp:lastModifiedBy>
  <dcterms:modified xsi:type="dcterms:W3CDTF">2015-12-10T07:48:33Z</dcterms:modified>
  <cp:revision>10</cp:revision>
  <dc:subject/>
  <dc:title>Программа работ по осноым еаправоениям развития и совершенствования работ по мажгосударственной стандартизации</dc:title>
</cp:coreProperties>
</file>